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07B-1CE2-4DCC-9421-B1F29E504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F53-A8F6-435F-9EBA-4BF02E53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1B9B-0DF8-40DC-A9C5-74DF4D61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7879-9CE2-4FCB-9885-DE618C8F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2D0B-1490-49C5-8156-AB617399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CEC-CAA8-4E00-BFCD-B1C98F33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5D9-9544-4C24-9D64-06EF7C0E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225-9D46-4A80-A467-A3ABC130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228-4091-4A9D-AE42-92B6826E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16F7-B645-40E1-872F-D856DE32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62C-931C-4F36-9254-F4AA04B86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5F16-0EB9-4842-A07A-0F29B8122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0D7E-F2BD-46A5-9827-87184CA1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60BF-51F7-4F74-8AD4-F816BD7A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568-DEEB-430C-ABD5-1B8EF237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BBC-BEDC-47AF-AD9F-1A177F3D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957-A4DA-4304-9524-8A98FA8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AC9-E455-4D49-A2C1-989937C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F70-8178-4B44-9DFC-196B2077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9B2-3827-40DC-B6C5-C9629E2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2C6-975C-4736-A8DB-8C170E4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94D-F2B1-49AB-B0A1-27C0EDFF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95F-F924-4B73-B59A-E7D96DA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CB2-8F0A-4A24-B14F-E43F1DE9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E91-8799-406B-ADA5-BD9EF0F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DA1-4D3B-4AE2-8CBB-FFD910B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CE1-F70A-4F45-A832-CD1B31C2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BDF-D29A-4E25-ABFB-F8C9D17B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B570-3BAA-480E-A03D-6C6693754C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69000" y="2133720"/>
            <a:ext cx="318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682560" y="299880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2862000" y="537372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утритивн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актори који утичу углавном на апсорпцију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То су пре свега састав оброка и начин ис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Витамин А и провитамин А се слабо апсорбују ако је оброк сиромашан мастима ис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нутрашњ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Физиолошки фак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азлике у функцији ГИТ-а у зависности од старости утичу на апсорп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апсорпција вит. Б12 је смањена код старијих особа услед смањене активности паријеталних ћелија желу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Здравствени стату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азличите болести могу утицати на апсорпцију и биоискористљивост неких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апсорпција вит. Б9 је смањена код особа са ентерити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ХРАМБЕНИ ИЗВОРИ ВИТА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47640" y="836640"/>
          <a:ext cx="5904000" cy="5824440"/>
        </p:xfrm>
        <a:graphic>
          <a:graphicData uri="http://schemas.openxmlformats.org/drawingml/2006/table">
            <a:tbl>
              <a:tblPr/>
              <a:tblGrid>
                <a:gridCol w="1152720"/>
                <a:gridCol w="1224000"/>
                <a:gridCol w="1224000"/>
                <a:gridCol w="1152360"/>
                <a:gridCol w="1150920"/>
              </a:tblGrid>
              <a:tr h="2779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 вита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465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ац, павлака, кајмак, масни сиреви, сардина, рибље уље, жуманце, масно месо, срце, харинга, печурке, парадајз, зелена салата, спанаћ, шаргарепа, купус, карфиол, зрна житарице, црни – комплетни хлеб, сочиво, бадем, орах, банане, лимун, поморанџ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вски квасац, клице житарица, сочиво, жуманце, купус, шаргарепа, спанаћ, карфиол, лук, јабуке, крушке, кромпир, црни – комплетни хлеб, грашак, млеко, маслац, лимун, поморанџа, парадајз, бадем, орах, печурке, шљиве, грожђе, банане, зелена салата, месо свињско, бубрези, јетра, пасуљ, кикир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мун, поморанџа, шипак, паприка, боровница, купус, парадајз, лук, зелена салата, зелени грашак, спанаћ, карфиол, грожђе, банане, шаргарепа, боранија, јабуке, крушке, шљиве, месни екстракт, млек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бље уље, жуманце, маслац, кајмак, млеко, павлака, свињска је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ље из клица житарица, кикирики, зелена салата, жуманце, масла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5" descr=""/>
          <p:cNvPicPr/>
          <p:nvPr/>
        </p:nvPicPr>
        <p:blipFill>
          <a:blip r:embed="rId2"/>
          <a:stretch/>
        </p:blipFill>
        <p:spPr>
          <a:xfrm>
            <a:off x="1054080" y="2925720"/>
            <a:ext cx="721188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ета каротен, ретин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лици – А1 и 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посолубилан вита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кладишти се у јетри (90% количине вит. А у тел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билан при термичкој обради хране  (дугим кувањем се губи до 25% овог витам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невне потребе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асл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800 – 10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или 50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намирнице животињског порекла (месо, млеко, јаја, рибе и д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мирнице биљног порекла - садрже каротиноиде (провитамин А) – шаргарепа,спанаћ, купус и друге врсте воћа и повр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755640" y="5589720"/>
            <a:ext cx="80964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6920" y="1125000"/>
            <a:ext cx="7871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А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ета каротен, ретин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нова (синтеза) ретинола из фото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улација раста свих делова организма (ћелија, коже, кост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тиоксидациона сво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ржавање функције репродуктивног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а раст и развој ембр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Услед недостајања овог витамина јавља се немогућност прилагођавања вида у условима смањене светлости - "кокошје “ или ноћно слепи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611280" y="5229360"/>
            <a:ext cx="80960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9280" y="981000"/>
            <a:ext cx="83170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1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тиамин, анеу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фактор у процесу декарбокси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држава функцију нерава, мишића и с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антиоксидациона сво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јачава апет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антидепресивни ефе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код трудница, дијабетечара, алкохоличара и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* болест бери-бери (малаксалост, парестезија, тахикардија, хипотензија, опстипација, повраћање, отоци), најчешће у Азији услед уноса пиринча (слаба количина вит. Б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рни хлеб, варива и друге врсте семенки које се употребљавају за исхрану, квасац, пиво, месо, млеко и др (стална употреба белог хлеба смањује овај витамин у исхра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539640" y="5742000"/>
            <a:ext cx="8280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280" y="1125000"/>
            <a:ext cx="83170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2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рибофлавин, лактофлав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регулише оксидационо-редукционе процесе у ћелиј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стиче опоравак тки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ава,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сигурава нормалан раст и разво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ивски квасац, џигерица, месо (нарочито немасна говедина), лиснато поврће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8064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280" y="1125000"/>
            <a:ext cx="83170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3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иацин, никотинска киселина, антипелагра фак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улази у саста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sr-R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DPH</a:t>
            </a:r>
            <a:r>
              <a:rPr b="0" lang="sr-R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1600" spc="-1" strike="noStrike" u="sng">
                <a:solidFill>
                  <a:srgbClr val="000000"/>
                </a:solidFill>
                <a:uFillTx/>
                <a:latin typeface="Arial"/>
              </a:rPr>
              <a:t>ћелијско дисањ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вног система, ГИТ-а, интегритет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смањује концентрацију холестерола у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фицит узрокује системску болест пелаг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тра, месо, кикирики, млеко, риба, квасац, зелено поврће, махунарке и житар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684360" y="5661000"/>
            <a:ext cx="7934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9280" y="134136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5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пантоте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саставни део коензима А - важан за одвијање Кребсовог цикл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сигурава нормалан расти разво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убрзава зарастање 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бољшава апсопрцију амино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у лечењу цирозе јетре и дијабет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термички није осетљ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џигерица, риба, пивски квасац, немасно месо, кикирики, печурке, грашак, житариц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611280" y="5732640"/>
            <a:ext cx="81374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Ћ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imir Funk (Kazimierz Funk,1884 – 1967) – пољски биохемич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12. – amin vitae или vita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(лат. vita - живот и amin – органско једињењ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езултат слика за Casmir Frank"/>
          <p:cNvPicPr/>
          <p:nvPr/>
        </p:nvPicPr>
        <p:blipFill>
          <a:blip r:embed="rId2"/>
          <a:stretch/>
        </p:blipFill>
        <p:spPr>
          <a:xfrm>
            <a:off x="6516720" y="2637000"/>
            <a:ext cx="2095560" cy="316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Сродна слика"/>
          <p:cNvPicPr/>
          <p:nvPr/>
        </p:nvPicPr>
        <p:blipFill>
          <a:blip r:embed="rId3"/>
          <a:stretch/>
        </p:blipFill>
        <p:spPr>
          <a:xfrm>
            <a:off x="1403280" y="3284640"/>
            <a:ext cx="3097440" cy="27367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26828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6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пирид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различитих метаболичких реакција (аминокиселине и протеи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важан за функцију не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еритроцитопо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значајан у метаболизму хомоцис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код трудница,  дојиља, хипертиреоид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ја, квасац, месо,млеко, житарице, поврће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684360" y="5295960"/>
            <a:ext cx="8020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280" y="1341000"/>
            <a:ext cx="831708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7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биотин, витамин 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ериват пимелинске кисел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оже да се синтетизује у цревима из бактер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има улогу у деаминацији и декарбоксилацији амино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позитивно утиче на раст и развој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бадеми, банане, јунећа и свињска јетра, пивкси квасац и со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684360" y="5300640"/>
            <a:ext cx="806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9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фол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нат и као антианемични ф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за синтезу ДН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ормалан раст и развој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одржавање функције нервног система и ГИТ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еопходан у развоју нервног система фет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важан у метаболизму хомоцис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у лечењу анемија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снато поврће, соја, пшеница, џигерица, квасац, јаја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4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Б12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цијалкобалам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неопходан у физиолошком сазревању еритроцита (еритроцитопое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-коензим у метаболизму ДНК, РНК и 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ристан у лечењу ан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Дефицит чест код вегетаријанац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поручена доза: 3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одрасли, 2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д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џигерица, јаја, млеко, риба, екстракт говеђег меса и неки микрооргани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1118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Ц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аскорби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ткрићем сузбијена болест –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корб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ско да Гама у 18 веку изгубио пола посаде, Џејмс Кук открио да се болест лечи киселим купу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Скорбут – крварења око корена длаке, поткожном ткиву и унутрашњим органима, климање зуба, отоци зглобова, ломљивост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јнестабилнији од свих витамина: разграђује га кисеоник, базна средина, висока темп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одови, листови и други делови скоро свих биљ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ише га има у плодовима шипурка, лимуна, зелених паприка и другог воћа и повр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8003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Ц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аскорбинск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жава јоне простетичких метала у редукованом обл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жан у виталности десни,зуба и капил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изградњу колагена и везивног тк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лакшава опоравак ткива, зацељење рана и опекот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маже апсорпцију гвожђ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чествује у синтези хемоглобина и ериторц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дстиче рад штитасте жлез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нтиоксид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блажава симптоме прехладе и гр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8003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калцифер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мплекс витамина Д1-Д5, биолошки активни Д2 и Д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термостаби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2 (ергокалциферол) – настаје деловањем УВ зрака на ергостер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3 (холекалциферол) – настаје деловањем УВ зрака на 7 дехидрохолестер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за апсорпцију неопходне жучне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ревентиво се даје код одојчади током прве године жив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ибље уље (уље бакалара, туне, лососа, харинге, сарделе), јаја, маслац, остриге, млеко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7981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24000" y="1197000"/>
            <a:ext cx="8532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калцифер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могућава нормалан развој костију и зу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улише процес метаболизма калцијума и фосф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чава апсорпцију калцијума и фосфора из танког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ећава тубулску ресорпцију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пречава развој рахит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едостатак изазива рахитис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кривљење ногу, деформација костију грудног коша – заостатак у расту и разво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684360" y="5589720"/>
            <a:ext cx="7981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Е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sr-RS" sz="2400" spc="-1" strike="noStrike">
                <a:solidFill>
                  <a:srgbClr val="000000"/>
                </a:solidFill>
                <a:latin typeface="Arial"/>
              </a:rPr>
              <a:t>-токоферол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изиолошке функ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кофактор бројних ензимских реак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делује као антикоагул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антиоксидан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држава функцију нервног система и крвних су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важан у функцији репродуктивног система (антистерилни вита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помаже апсорпцију незасићених масних 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олакшава еритроцитопое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це житарица и других биљака, зелено поврће, воћ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дан од најквалитетнијих извора овог витамина је уље кукурузних к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248680" cy="543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8029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афтохи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опште одлик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знат и као антихеморагични витам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родица неколико витамина (К1 – К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твара га бактеријска фл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етљив на киселине и ба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антитромботични лекови му спречавају дело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дневне потребе: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70-14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одрасли, 30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д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звори: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анаћ, кељ и купус, затим млеко, џигерица и 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ШТЕ КАРАКТЕРИСТИК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рганска једињ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але молекулске м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личите 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до сада октривених вр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створљиви у води (вит. Ц и комплекс вит. Б) и мастима (вит. А, Д, Е и 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опходни за велики број животних функциј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види слај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2916360" y="4581360"/>
            <a:ext cx="3217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9280" y="1197000"/>
            <a:ext cx="831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тамин К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(нафтохин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*физиолошке функције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ребан за синтезу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II, IX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, и вероватно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фактора коагу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спречава хеморагију новорођенч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егулише процес коагулације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јачава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Дефицит доводи до крвар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8248680" cy="542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806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ТРИТИВНЕ КАРАКТЕРИСТИКЕ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мају енерегетску вредност за разлику од масти, угљених хидрата и 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ећину витамина организам не може да синтет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орају се зато унети хр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требни су нам у малим количинам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g или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тачно дефиниса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епоручени дневни унос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DA; recommended daily allow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3132000" y="4581360"/>
            <a:ext cx="2708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ЛОГЕ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ЕЗАМЕНЉИВИ БИОЛОШКИ КАТАЛИЗАТОРИ ЋЕЛИЈСКИХ ХЕМИЈСКИХ РЕАКЦИЈА (КОЕНЗИМИ И ПРОСТЕТИЧКЕ ГРУПЕ ЕНЗИ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ИГУРАВАЈУ ПРАВИЛАН РАД МЕТАБОЛИЗМА, РАСТ И РЕПРОДУК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ТРЕБНИ СУ ЗА СИНТЕЗУ КОЛАГЕНА И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АЖНИ У ОДВИЈАЊУ ПРОЦЕСА КОАГУЛАЦИЈЕ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ЧЕСТВУЈУ У КАТАБОЛИЗМУ ИЛИ АНАБОЛИЗМУ УГЉЕНИХ ХИДРАТА, МАСТИ И ПРО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ЕОПХОДНИ У ФУНКЦИОНИСАЊУ ВИДА (ФОТОРЕЦЕПТО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*поремећај уноса витамина води у хипо или хипер-витамин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и растворљиви у ма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исутни у намирницима које садрже м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лабо растворљиви у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носе се у облику ест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аре се под утицајем холестерол-еста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псорбују се у горњим партијама танког црева (проста дифуз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а апсорпцију неопходне жучне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лазмом се преносе у облику миц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кладиште се у јетри и масном ткиву (вит. А и 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тенцијално токсични, посебно витамин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линички знакови недостатка се развијају после више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Arial"/>
              </a:rPr>
              <a:t>* Апсопрција ових витамина се смањује када се смањи апсорпција масти (недостатак жучних соли и/или холестерол-естараз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699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и растворљиви у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бро растворљиви у води (телесним течност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псорбују се у горњим партијама танког црева (изузев вит. Б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т. Б12 се апсорбује у илеуму везивањем са Унутрашњим фак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ећина се апсорбује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трансопор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т. Б12 и Б9 преко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езависних транспор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шак се не складишти осим вит. Б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авна улога – коензими и простетичке групе ен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линички знакови недостатка се развијају после 6-8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Људски организам не може у потпуности да искористи све витамине присутне у х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дређивање количине витамина у намирницама није довољно да се разуме стварна искористљивост витамина из тих намир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ктори који одређују витаминску искористљивос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утритивн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нутрашњ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и фактори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Различити биопотенцијали витамера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ергокалциферол (Д2) је значајно мање активан од холекалциферола (Д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Губици приликом складиштења, прераде или кувања хранљивих матер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нпр. количина витамина Ц у кромпиру се смањује на 1/3 током складиштења у трајању од 1 мес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*витамери-скуп различитих хемијских супстанци који сви показу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сличне биолошке активности као неки вита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Arial"/>
              </a:rPr>
              <a:t>(нпр. различити облици витамина А, Д ис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ХХХ</cp:lastModifiedBy>
  <dcterms:modified xsi:type="dcterms:W3CDTF">2021-02-17T06:46:28Z</dcterms:modified>
  <cp:revision>102</cp:revision>
  <dc:subject/>
  <dc:title>ИНТЕГРИСАНЕ АКАДЕМСКЕ СТУДИЈЕ ФАРМАЦИЈЕ  Г04 – Медицинска хемија и дизајн лекова 2</dc:title>
</cp:coreProperties>
</file>