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6AF-E2C6-44A0-AF0C-7432546D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0CF-016C-4C15-B640-0BB61A08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5BCC-B9B5-4997-869B-083A03C7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18B4-AA83-482B-83CF-5C508B38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A450-3872-462B-A904-4B558096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CEA-BB1A-4A07-A247-2C3137C9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14D6-7438-49A7-9453-6C4AB70A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5BF1-977A-4CF4-A502-43AC14AA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CD88-A0A0-4656-9FE4-7B35E1AB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6B4-CF8E-4BAB-A80E-ECCF5E7D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A743-AA0E-4E0A-89E7-6DDFDD7B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EB7-BF27-4E12-A572-64CBD0EF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D9DB-4934-4263-AE7F-CFCDD276D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627280" y="1197000"/>
            <a:ext cx="58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Интергисане академске студије фарм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775960" y="162864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УТРИТИВНИ СУПЛЕМ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889800" y="2165400"/>
            <a:ext cx="1540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ЕЖБА БРОЈ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547560" y="32925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Calibri"/>
              </a:rPr>
              <a:t>Поремећаји метаболизма витами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Calibri"/>
              </a:rPr>
              <a:t>Хипо-и хипервитамин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Узроци настанка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177336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Раније је главни узрок настанка овог обољења  био недовољно излагање сунчевим зрацима у загађеним градов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У данашње време, ово обољење много чешће настаје услед недовољног уноса провитамина (који се у кожи трансформише под утицајем сунчевих зрак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Мутације као узрок настанка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во обољење такође може настати као због мутације гена за бубрежну 1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хидроксилазу, или у тешким поремећајима функције бубрега и јетре, при чему нема одговора на примену витамина D, а постоји нормалан одговор на примену 1,25-дихидроксихолекалциферола (витамин D-резистентни рахитис тип 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 ретким случајевима може постојати мутација гена за рецептор за 1,25- дихидроксихолекалциферол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итамин D-резистентни рахитис тип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при чему постоји недовољан одговор на примену витамина Д као и за 1,25-дихидроксихолекалциферо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9992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ечење се спроводи у зависности од биохемијске основе боле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утинска примена млека обогаћеног витамином D значајно је смањила појаву рахитиса у западним земљама, док је у земљама у развоју ова болест и даље једна од најчешћих у дечијем узрас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шки облици болести понекад се морају хирушки третира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gtbc.fm/wp-content/uploads/2015/09/vitamind.jpg"/>
          <p:cNvPicPr/>
          <p:nvPr/>
        </p:nvPicPr>
        <p:blipFill>
          <a:blip r:embed="rId2"/>
          <a:stretch/>
        </p:blipFill>
        <p:spPr>
          <a:xfrm>
            <a:off x="4643280" y="4508640"/>
            <a:ext cx="42498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1652040" y="2781360"/>
            <a:ext cx="61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едостатак витамина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30040" y="155736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ви откри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посолубилни витам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пада породици једињења која се називају ретино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ак витамина А  је значајан здравствени проблем у земљама у разво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 80.000 особа широм света (највећим делом деца у неразвијеним земљама) годишње изгуби вид због тешког недостатка витамина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645360" y="40464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езултат слика за vitamin A"/>
          <p:cNvPicPr/>
          <p:nvPr/>
        </p:nvPicPr>
        <p:blipFill>
          <a:blip r:embed="rId1"/>
          <a:stretch/>
        </p:blipFill>
        <p:spPr>
          <a:xfrm>
            <a:off x="5462640" y="189000"/>
            <a:ext cx="706320" cy="896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ttp://upload.wikimedia.org/wikipedia/commons/0/09/Retinol.png"/>
          <p:cNvPicPr/>
          <p:nvPr/>
        </p:nvPicPr>
        <p:blipFill>
          <a:blip r:embed="rId2"/>
          <a:stretch/>
        </p:blipFill>
        <p:spPr>
          <a:xfrm>
            <a:off x="595440" y="4992840"/>
            <a:ext cx="5162400" cy="1773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3408480" y="625140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емијска 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645360" y="40464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Резултат слика за vitamin A"/>
          <p:cNvPicPr/>
          <p:nvPr/>
        </p:nvPicPr>
        <p:blipFill>
          <a:blip r:embed="rId1"/>
          <a:stretch/>
        </p:blipFill>
        <p:spPr>
          <a:xfrm>
            <a:off x="5494320" y="189000"/>
            <a:ext cx="706320" cy="896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Резултат слика за vitamin A"/>
          <p:cNvPicPr/>
          <p:nvPr/>
        </p:nvPicPr>
        <p:blipFill>
          <a:blip r:embed="rId2"/>
          <a:stretch/>
        </p:blipFill>
        <p:spPr>
          <a:xfrm>
            <a:off x="2565360" y="4508640"/>
            <a:ext cx="3754440" cy="2033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95280" y="1484280"/>
            <a:ext cx="820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ак витамина А изазива недовољан унос намирница које су богате витамином А (јетра, бубрези, јаја, млеко, павлака и сир),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β-каротен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урсором витамина А (жуто или наранџасто воће и поврћ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један од најранијих поремећаја који настају услед недостатка витамина А је ноћно слепил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никталоп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430800" y="76500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тамин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Резултат слика за vitamin A"/>
          <p:cNvPicPr/>
          <p:nvPr/>
        </p:nvPicPr>
        <p:blipFill>
          <a:blip r:embed="rId1"/>
          <a:stretch/>
        </p:blipFill>
        <p:spPr>
          <a:xfrm>
            <a:off x="5141880" y="509760"/>
            <a:ext cx="706320" cy="898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8"/>
          <p:cNvSpPr/>
          <p:nvPr/>
        </p:nvSpPr>
        <p:spPr>
          <a:xfrm>
            <a:off x="395280" y="2205000"/>
            <a:ext cx="84978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ак витамина А такође доприноси настајању слепила услед израженог исушивања ока, које оштећује рожњачу (ксерофталмија) и мрежња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т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остата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а А ремети функцију штапића и чеп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готрајан недостатак витамина А изазива анатомске промене штапића и чепића које су праћене дегенерацијом неуронских слојева мрежња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3063240" y="692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ТЕРАПИЈСКЕ СМЕРН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24000" y="2333520"/>
            <a:ext cx="835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ње витамином А може да поврати функцију мрежњаче уколико рецептори нису оштећ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Унос хране богате витамином А :  јетра, пилетина, говедина, јаја, пуномасно млеко, шаргарепа, спанаћ, кељ и друго зелено повр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Унос витамина В-комп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6588000" y="0"/>
            <a:ext cx="2556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Рахитис и остеомал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Рахитис и остеомал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9640" y="148428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витамина D доводи до неправилне калцификације коштаног матрикса, при чему настај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х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 деце, или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еомал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 одрасли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ако је 1,25- дихидроксихоликалциферол неопходан за правилну минерализацију коштаног матрикса, главни узрок овог обољења је немогућност допремање довољних количина Ca и PО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до места минерализац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Рахитис и остеомал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6999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 се стање развије у потпуности, код деце долази до слабости и деформитета дугих костију, оштећења зуба и хипокалцијем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одраслих, ово стање изазива мање уочљиве симпто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Резултат слика за rachitis"/>
          <p:cNvPicPr/>
          <p:nvPr/>
        </p:nvPicPr>
        <p:blipFill>
          <a:blip r:embed="rId1"/>
          <a:stretch/>
        </p:blipFill>
        <p:spPr>
          <a:xfrm>
            <a:off x="2916360" y="3860640"/>
            <a:ext cx="38098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57:51Z</dcterms:created>
  <dc:creator>Maja</dc:creator>
  <dc:description/>
  <dc:language>en-US</dc:language>
  <cp:lastModifiedBy>Vladimir Zivkovic</cp:lastModifiedBy>
  <dcterms:modified xsi:type="dcterms:W3CDTF">2017-02-09T08:23:13Z</dcterms:modified>
  <cp:revision>228</cp:revision>
  <dc:subject/>
  <dc:title>Slide 1</dc:title>
</cp:coreProperties>
</file>